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FCD48-2B6C-49C9-BC87-8D292AC7F4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D5601-A3FD-402B-8002-BF425D6B5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B16E6-4AF3-4BAA-9A24-41995E40D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be need professional learning on ck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116EF-9E42-413D-B3EC-37B4DB5CC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E2D56-1B17-4098-90F4-39B25B081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319D7-DB92-402B-8253-8B5018ED8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02636-1C1F-4E58-BF0B-E2196063F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1B5EA-5759-4A6E-8A68-A18A5D9AD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BB84E-2C0B-4E15-9CD2-766952044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E9488-00C9-43F7-9D80-FEB295F44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6AD62-6C22-4EDF-BC26-583367905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36C89-E768-407E-8B3C-9D8A33F7C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e BLM 2 prior to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4C204-EA87-40B5-9C37-593D8FEB3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A4B96-D9D4-4671-8354-1E8C273FA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e BLM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2E254-A72D-4536-A76E-C5C66345E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B7C7A-B497-4B38-948E-75343BC8A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86CDB-A9C6-4EF7-9BA9-6EBB7DD57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8AD0E-0657-4212-B0DA-3018ADEB1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need big chart paper areas where people can write their questions for each of the four big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78EDD-89B5-45B4-8C4C-1533DB8AC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need big chart paper areas where people can write their questions for each of the four big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9D0A0-5950-4E9C-969D-868ECEEE7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4869A-60E6-458A-826E-B2C20B655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y standing during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29EF2-E4D3-42E4-8978-E385C73E2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110ED-03E5-4AE6-BC9D-E895EE6B6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 back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88C4E-7C57-4E04-A18E-C06C1D4A5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 back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1C356-3000-4AC4-8309-AA5B59996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D8851-D785-4E60-B26C-DB979923D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92FD6-3934-4DAF-8CE0-46A8417ED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9AE59-3D2E-4888-B80B-07D771181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ies CKT-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89C76-4A22-4F37-B26B-E2E626C91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an example, e.g. your goal might be that students can use order of operations, but why is that your go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8B512-5A2D-4B17-A2C7-EA7CA1FE6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C164-121F-4656-B135-780F7C85A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1DFB-BD79-4091-B0CD-C36FB162D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E562-79C4-428F-8641-CEA35C1B7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3289-ECF1-4D09-AF87-DDC21A068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2548F-F2FC-4237-96AE-166CF6F53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B1157-8078-424F-99DC-1E5772CE1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5F431-385D-485F-A573-AC5AD8A29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DE20D-17E9-40BE-83CA-4910BD25B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FD857-8126-44FA-BBDA-FECEBBFD1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69A81-C82E-4E32-BC49-CCA402EA5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DB84F-2701-4AE0-9559-4C84B7B2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27B6-1950-437E-8A94-5F99390D0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03393-448E-404C-8977-6315976C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AC7AF-2541-40E0-8714-829FBEB8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395DD-C20B-4B71-9565-1FD1C4A28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BBE45-F81E-40B4-B7BF-6F1E50536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CFDA4-DB7E-4C01-8D1A-0764CBC9E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9915-9D14-4479-B8A7-C56385341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6593-3EFE-4F33-AAB0-B8EFE3A97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8988-48EC-4D99-AE6B-1C1D00D51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B97F-BDAC-470B-B08D-BFFDE9036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DC11-5762-4A9D-BA7A-E3DB5F3D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7731-BF5D-4FB4-ABB1-F653C9A9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1DCE-1F09-41FC-A720-93093CC1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CDA59-AADA-490E-95C0-A9529E11DD3F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5" name="Picture 12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Untitled-1"/>
          <p:cNvPicPr/>
          <p:nvPr/>
        </p:nvPicPr>
        <p:blipFill>
          <a:blip r:embed="rId3"/>
          <a:stretch/>
        </p:blipFill>
        <p:spPr>
          <a:xfrm>
            <a:off x="380880" y="380880"/>
            <a:ext cx="6853320" cy="1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7ED0C-798C-4923-A628-16C3794C3DE7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1763640" y="838080"/>
            <a:ext cx="5545080" cy="45468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1"/>
          <p:cNvSpPr/>
          <p:nvPr/>
        </p:nvSpPr>
        <p:spPr>
          <a:xfrm>
            <a:off x="431640" y="5337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Book Antiqua"/>
              </a:rPr>
              <a:t>Plenary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990720" y="2133720"/>
            <a:ext cx="7416720" cy="64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stead of reciting a curriculum expectation as a goal: solve problems involving percents expressed to .. whole-number percents greater than 100%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5CAA1-AB03-4A63-99D6-10C87E52E2D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990720" y="2209680"/>
            <a:ext cx="741672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could be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one number is less than 100% of another, the second number is more than 100% of the first. 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D97CB-3447-4AC2-B3B2-986544A164E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1066680" y="2286000"/>
            <a:ext cx="741708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could be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a percent is greater than 100%, its decimal equivalent is greater than 1. 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32AC9-F66D-4BD2-973B-347A5972AE2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117440" y="1905120"/>
            <a:ext cx="7417080" cy="68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could be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ame strategies are used to solve problems involving percents greater than 100% as problems involving percents less than 100%. OR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ECE4B-AECC-40C6-8C1E-50895796505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y you want to do this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1066680" y="2895480"/>
            <a:ext cx="74170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you decide on the goal, you are more likely to know what questions to ask, what activity to use,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2F9B3-DE5F-49BB-8B08-21F32E64701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Make it you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1066680" y="2895480"/>
            <a:ext cx="741708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 if you get a lesson from a valued resource, you have to make your OWN decision about what to pull out of that less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FE6A7-DC87-411A-8BC5-6DC4694A1EA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1066680" y="2895480"/>
            <a:ext cx="7417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t’s look at this lesson from Grade 7 TIP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ADAE4-6977-4B25-8A5E-6C06B3C9936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E4639-8678-4260-8435-932CF6667F8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Picture 1.png"/>
          <p:cNvPicPr/>
          <p:nvPr/>
        </p:nvPicPr>
        <p:blipFill>
          <a:blip r:embed="rId1"/>
          <a:stretch/>
        </p:blipFill>
        <p:spPr>
          <a:xfrm>
            <a:off x="0" y="1636560"/>
            <a:ext cx="9144000" cy="35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4B0D2-9E68-441E-BF2A-7B2E39D5312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Picture 2.png"/>
          <p:cNvPicPr/>
          <p:nvPr/>
        </p:nvPicPr>
        <p:blipFill>
          <a:blip r:embed="rId1"/>
          <a:stretch/>
        </p:blipFill>
        <p:spPr>
          <a:xfrm>
            <a:off x="0" y="1969920"/>
            <a:ext cx="9144000" cy="29181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3"/>
          <p:cNvSpPr/>
          <p:nvPr/>
        </p:nvSpPr>
        <p:spPr>
          <a:xfrm>
            <a:off x="2057400" y="3733920"/>
            <a:ext cx="5943600" cy="304560"/>
          </a:xfrm>
          <a:prstGeom prst="rect">
            <a:avLst/>
          </a:prstGeom>
          <a:solidFill>
            <a:srgbClr val="ffff00">
              <a:alpha val="19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8C4C2-8531-41DB-B726-67739A7E074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Picture 3.png"/>
          <p:cNvPicPr/>
          <p:nvPr/>
        </p:nvPicPr>
        <p:blipFill>
          <a:blip r:embed="rId1"/>
          <a:stretch/>
        </p:blipFill>
        <p:spPr>
          <a:xfrm>
            <a:off x="0" y="1209600"/>
            <a:ext cx="9144000" cy="443880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3"/>
          <p:cNvSpPr/>
          <p:nvPr/>
        </p:nvSpPr>
        <p:spPr>
          <a:xfrm>
            <a:off x="4419720" y="1905120"/>
            <a:ext cx="4343400" cy="304560"/>
          </a:xfrm>
          <a:prstGeom prst="rect">
            <a:avLst/>
          </a:prstGeom>
          <a:solidFill>
            <a:srgbClr val="ffff00">
              <a:alpha val="21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4648320" y="2666880"/>
            <a:ext cx="3429000" cy="304920"/>
          </a:xfrm>
          <a:prstGeom prst="rect">
            <a:avLst/>
          </a:prstGeom>
          <a:solidFill>
            <a:srgbClr val="ffff00">
              <a:alpha val="25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6324480" y="2895480"/>
            <a:ext cx="2819520" cy="381240"/>
          </a:xfrm>
          <a:prstGeom prst="rect">
            <a:avLst/>
          </a:prstGeom>
          <a:solidFill>
            <a:srgbClr val="ffff00">
              <a:alpha val="25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2209680" y="3124080"/>
            <a:ext cx="3505320" cy="381240"/>
          </a:xfrm>
          <a:prstGeom prst="rect">
            <a:avLst/>
          </a:prstGeom>
          <a:solidFill>
            <a:srgbClr val="ffff00">
              <a:alpha val="25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etting Lesson Goal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DD7FD-F977-4D9A-AC5F-B92B0340EB3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Picture 4.png"/>
          <p:cNvPicPr/>
          <p:nvPr/>
        </p:nvPicPr>
        <p:blipFill>
          <a:blip r:embed="rId1"/>
          <a:stretch/>
        </p:blipFill>
        <p:spPr>
          <a:xfrm>
            <a:off x="0" y="1415880"/>
            <a:ext cx="9144000" cy="40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69A56-6627-417C-A022-F94B2EADEA7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Picture 5.png"/>
          <p:cNvPicPr/>
          <p:nvPr/>
        </p:nvPicPr>
        <p:blipFill>
          <a:blip r:embed="rId1"/>
          <a:stretch/>
        </p:blipFill>
        <p:spPr>
          <a:xfrm>
            <a:off x="0" y="1255680"/>
            <a:ext cx="9144000" cy="43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1FCF2-BE54-4B0D-A8DA-A8E9F08E888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Picture 6.png"/>
          <p:cNvPicPr/>
          <p:nvPr/>
        </p:nvPicPr>
        <p:blipFill>
          <a:blip r:embed="rId1"/>
          <a:stretch/>
        </p:blipFill>
        <p:spPr>
          <a:xfrm>
            <a:off x="0" y="1906560"/>
            <a:ext cx="914400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Mayb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1066680" y="1905120"/>
            <a:ext cx="7417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goal is about recognizing when it’s useful to use a generalization when describing a patte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AA0B1-02FC-4EEA-AB87-06619BC4E99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Mayb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 the closing ask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1066680" y="1905120"/>
            <a:ext cx="7417080" cy="68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thi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way someone figures out terms 3, 4, 5, and 6 might be very different from the way that person figures out term 100 becaus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EE3FD-6A20-4860-9A99-B0F3DDF33A0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Here are several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066680" y="2895480"/>
            <a:ext cx="74170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following stated goals were taken from a series of lessons on linear relations in a grade 9 tex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B470A-22B9-44FF-A318-7D56AD3F503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3"/>
          <p:cNvSpPr/>
          <p:nvPr/>
        </p:nvSpPr>
        <p:spPr>
          <a:xfrm>
            <a:off x="1066680" y="990720"/>
            <a:ext cx="7417080" cy="71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 a relation using a table of values, a graph or an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dentify direct and partial vari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dentify properties of linear re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C9FDD-8A9E-441F-98D5-0ABA6FC2B57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3"/>
          <p:cNvSpPr/>
          <p:nvPr/>
        </p:nvSpPr>
        <p:spPr>
          <a:xfrm>
            <a:off x="1066680" y="990720"/>
            <a:ext cx="741708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 a linear relation in a different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cognize whether a relation is linear or nonlin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B5C4E-3EAA-483D-A16A-88099D253A0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I’m hoping that you will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066680" y="2514600"/>
            <a:ext cx="741708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ake these goals and talk about how to focus them to relate more explicitly to one or more of the big ideas. To do th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36CAE-EB33-4245-8A67-1C363E3E576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ork with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1143000" y="2286000"/>
            <a:ext cx="741672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 least 2 new colleagues to try to reshape/refocus at least two of the goals. Be ready to sha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72848-FD7A-4218-B6F3-CF70641B852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irst word/last w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066680" y="289548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t in a group with 3 others. One of you begins and asks the next perso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4A64A-1900-4636-947B-6D7A3047514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Now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1066680" y="1828800"/>
            <a:ext cx="74170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 with the same colleagues to write consolidating questions for two of those goals that would bring them into the spotlight for student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04755-F3FA-465F-82C6-692927C8E3B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Now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1066680" y="1828800"/>
            <a:ext cx="74170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st them in the appropriate spo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7EFA0-130D-4C5F-83A2-2DDAE1B4127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Let’s sh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066680" y="236232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t’s do a gallery walk looking at the questions that were creat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33351-0DFB-4293-96A1-17AF1B34086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Cloud Callout 9"/>
          <p:cNvSpPr/>
          <p:nvPr/>
        </p:nvSpPr>
        <p:spPr>
          <a:xfrm>
            <a:off x="5257800" y="1523880"/>
            <a:ext cx="3276720" cy="1905120"/>
          </a:xfrm>
          <a:prstGeom prst="cloud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Cloud Callout 8"/>
          <p:cNvSpPr/>
          <p:nvPr/>
        </p:nvSpPr>
        <p:spPr>
          <a:xfrm>
            <a:off x="838080" y="1752480"/>
            <a:ext cx="3276720" cy="1905120"/>
          </a:xfrm>
          <a:prstGeom prst="cloud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Think about the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204BF-297A-4727-A5F6-4F4781C2B0C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4"/>
          <p:cNvSpPr/>
          <p:nvPr/>
        </p:nvSpPr>
        <p:spPr>
          <a:xfrm>
            <a:off x="990720" y="2286000"/>
            <a:ext cx="327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Expec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5"/>
          <p:cNvSpPr/>
          <p:nvPr/>
        </p:nvSpPr>
        <p:spPr>
          <a:xfrm>
            <a:off x="5562720" y="20574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6"/>
          <p:cNvSpPr/>
          <p:nvPr/>
        </p:nvSpPr>
        <p:spPr>
          <a:xfrm>
            <a:off x="4038480" y="37339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Lesso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7"/>
          <p:cNvSpPr/>
          <p:nvPr/>
        </p:nvSpPr>
        <p:spPr>
          <a:xfrm>
            <a:off x="5486400" y="4648320"/>
            <a:ext cx="3276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Consolidating (and other)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Straight Arrow Connector 11"/>
          <p:cNvCxnSpPr/>
          <p:nvPr/>
        </p:nvCxnSpPr>
        <p:spPr>
          <a:xfrm flipV="1">
            <a:off x="3962160" y="2666160"/>
            <a:ext cx="1448280" cy="22932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189" name="Straight Arrow Connector 15"/>
          <p:cNvCxnSpPr/>
          <p:nvPr/>
        </p:nvCxnSpPr>
        <p:spPr>
          <a:xfrm>
            <a:off x="4952880" y="4266720"/>
            <a:ext cx="457920" cy="78516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190" name="Straight Arrow Connector 17"/>
          <p:cNvCxnSpPr/>
          <p:nvPr/>
        </p:nvCxnSpPr>
        <p:spPr>
          <a:xfrm flipH="1">
            <a:off x="5257080" y="3123720"/>
            <a:ext cx="686520" cy="76284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191" name="Straight Arrow Connector 16"/>
          <p:cNvCxnSpPr/>
          <p:nvPr/>
        </p:nvCxnSpPr>
        <p:spPr>
          <a:xfrm>
            <a:off x="4037400" y="2895480"/>
            <a:ext cx="762840" cy="99144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</p:spTree>
  </p:cSld>
  <p:transition>
    <p:fade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Let’s consoli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1066680" y="2362320"/>
            <a:ext cx="7417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lk over to someone you’ve not talked to befo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FB897-159E-445B-969B-96E5DFA587C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Let’s consoli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066680" y="2362320"/>
            <a:ext cx="7417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hare one idea that came up that reinforces what you already do re lesson goal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62F74-47CE-4500-B499-0DD19F0E432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Let’s consoli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1066680" y="2362320"/>
            <a:ext cx="7417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ffer one idea that came up that might change how you create lesson goal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7397C-679D-4836-AB3C-A3FF493A582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irst word/last w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1066680" y="289548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are important things to think about when creating a lesson go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05D97-54DA-4EF8-B38E-30E78171A54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irst word/last w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066680" y="2895480"/>
            <a:ext cx="741708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at person replies, then the next, the next, and then it goes back to the start– that person gets the last wor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EF1AE-371C-441B-A303-480E893C68C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Let’s sh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1066680" y="289548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was the most interesting idea you heard during this minds-on activit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30F1D-7907-4385-8040-68A9A5EFC23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It’s so important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219320" y="2149560"/>
            <a:ext cx="7416720" cy="71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tting a goal clear in your own mind can make a big difference in increasing the likelihood that students will learn what you hope they will lear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B9A9B-B8A4-4A33-AC90-BEA7037D1D3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3"/>
          <p:cNvSpPr/>
          <p:nvPr/>
        </p:nvSpPr>
        <p:spPr>
          <a:xfrm>
            <a:off x="1193760" y="2606760"/>
            <a:ext cx="74167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at includes knowing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you have that goal. --- What’s the point of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151C6-704A-4F4D-9C16-CCCC64D3045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Teacher strugg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1066680" y="2895480"/>
            <a:ext cx="741708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y experience is that setting lesson goals beyond reciting an expectation or simply using a topic name is a struggle for teacher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FE6BF-3BF8-4B82-A765-EDE06C05517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6T00:14:11Z</dcterms:created>
  <dc:creator>PSteele</dc:creator>
  <dc:description/>
  <dc:language>en-US</dc:language>
  <cp:lastModifiedBy>Marian Small</cp:lastModifiedBy>
  <dcterms:modified xsi:type="dcterms:W3CDTF">2009-08-18T16:56:59Z</dcterms:modified>
  <cp:revision>234</cp:revision>
  <dc:subject/>
  <dc:title>Slide 1</dc:title>
</cp:coreProperties>
</file>